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17B-E9EA-4A0C-A9AC-14927F36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EC6-7C55-43B5-B800-1BC25692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DB2-6D74-4AA8-9D2B-8BB3E22F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773-CD27-4A13-9F95-580E9E01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BDD-DC1D-4DAB-9AB7-1C9C0FA1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28D-A854-4335-ABE4-CF6D11A7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9BD-B20C-415E-A79D-CC6335C5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741-1450-4340-B868-338BF813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066-80B2-450F-BD00-0DC874B1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F63-1483-4FD5-88CC-37CEEA4E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FE7-8E52-41EB-8BC4-BB0DE28B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CC7-6EC7-4730-9B64-F4924A0D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3567-D692-4F06-9482-A686934D26A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00040" y="768240"/>
            <a:ext cx="8001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py and complete the tab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47840" y="1981080"/>
            <a:ext cx="8248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324648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072040" y="428760"/>
            <a:ext cx="3387600" cy="30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2786040" y="4357800"/>
            <a:ext cx="43578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1627200"/>
            <a:ext cx="9144000" cy="5087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0004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  <a:ea typeface="Arial"/>
              </a:rPr>
              <a:t>Achieved with Excellence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1214280"/>
            <a:ext cx="9182160" cy="5500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50004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  <a:ea typeface="Arial"/>
              </a:rPr>
              <a:t>Achieved with Excellence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2840" y="1528920"/>
            <a:ext cx="9058320" cy="5114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0004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  <a:ea typeface="Arial"/>
              </a:rPr>
              <a:t>Achieved with Meri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2840" y="1224000"/>
            <a:ext cx="9058320" cy="5419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0004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  <a:ea typeface="Arial"/>
              </a:rPr>
              <a:t>Achieved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3480" y="1738440"/>
            <a:ext cx="9077040" cy="4905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50004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T</a:t>
            </a:r>
            <a:r>
              <a:rPr b="0" lang="en-NZ" sz="4000" spc="-1" strike="noStrike">
                <a:solidFill>
                  <a:srgbClr val="ffffff"/>
                </a:solidFill>
                <a:latin typeface="Arial"/>
                <a:ea typeface="Arial"/>
              </a:rPr>
              <a:t> Achieved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05:56:48Z</dcterms:created>
  <dc:creator>Dave</dc:creator>
  <dc:description/>
  <dc:language>en-US</dc:language>
  <cp:lastModifiedBy>Ministry of Education</cp:lastModifiedBy>
  <dcterms:modified xsi:type="dcterms:W3CDTF">2012-02-15T20:33:54Z</dcterms:modified>
  <cp:revision>46</cp:revision>
  <dc:subject/>
  <dc:title>Waves</dc:title>
</cp:coreProperties>
</file>